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5FB-AC5A-4B88-8BCC-01096D23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F28-F54C-454E-9AFF-F58B9516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DD3-B47A-40E6-A84B-D3CEF398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50B-92F5-4830-A797-C9B0992C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9EE-45C7-4337-BB6B-9905F868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907-7A03-46A5-9F38-5A133D83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F7E-B423-475F-A654-634C4602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4F0-486A-4EBA-8F8C-47169F81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5445-AD2A-47DF-9724-3DF9A1A5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DF3-EBB6-4E91-AD4D-543FB3F0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AFE-DECF-4A49-BF32-D6956753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293-5D09-4BA0-97F9-CBE6F4C2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4873-016D-420E-8FF2-F08B7AD58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3322440" cy="4343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52840" y="152280"/>
            <a:ext cx="3228840" cy="4305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4714920"/>
            <a:ext cx="2698920" cy="427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625920" y="4719600"/>
            <a:ext cx="285120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227400" cy="3657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3408480" cy="3962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3520" y="5181480"/>
            <a:ext cx="281124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630600" y="4724280"/>
            <a:ext cx="31003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3832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86200" y="30492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19240" y="4572000"/>
            <a:ext cx="298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22790</cp:lastModifiedBy>
  <dcterms:modified xsi:type="dcterms:W3CDTF">2008-12-19T00:20:40Z</dcterms:modified>
  <cp:revision>6</cp:revision>
  <dc:subject/>
  <dc:title>Slide 1</dc:title>
</cp:coreProperties>
</file>